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544F-A142-4274-AF9B-D5175F38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8567-4959-4061-896C-7E306D3E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69FF-BD9D-4BEF-89DF-1DBF8BC4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3A10-182A-43A0-A075-8D1EDC26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8544-C074-47CF-BEF5-43FDB720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D6EC-CB67-4E94-B6B3-093396A1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8708-FA7A-459F-B2B3-7FF1DC2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0BAA-110B-4BE9-8162-A7D9F879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1664-F56E-414A-BB43-C7F4F371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8E08-6460-4DB8-860D-BC657D9A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5BAE-033C-4A0E-8FA4-2441FAE1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E908-CBE9-4DF9-ACEA-87D22EB9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EC7A-3F59-4F1F-BAFB-0804168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AF7E-3B78-4120-A49B-D12441E2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0F51-F618-48B6-834B-AFF64FC9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4643-D4A1-4A13-AE86-0779CF53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C2B0-FAB0-43C8-857A-6D16FF84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C292-FE48-4832-B65C-6D79DCAF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8C51-FF46-4013-B674-F4CBA93A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C29C-9F40-4AD8-A3BB-A20D3AD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6E42-0372-4B14-83C1-08283478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CD52-3195-4B5A-9DD2-CFE2C668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BF8A-052F-4333-93CF-E0E080E7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FFAB-49CB-4DB7-8CD2-385ED59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1C14-D3F7-44F2-857E-7C3A25145F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9157-2433-4EEE-AD93-1F61529FAE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geovid.com/Video_mp3_Extractor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hyperlink" Target="http://www.zamzar.com/" TargetMode="External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mp4cam2avi/" TargetMode="External"/><Relationship Id="rId2" Type="http://schemas.openxmlformats.org/officeDocument/2006/relationships/hyperlink" Target="http://sourceforge.net/projects/mp4cam2avi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terrygrimm-etech.wikispaces.com/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terrygrimm-etech.wikispaces.com/WikiMediaYou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0" y="285588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are Better Than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4280" y="4530600"/>
            <a:ext cx="858348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r: Terry Gri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oe_tag@access-k12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Technology Consul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oning County Educational Servic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280" y="3608280"/>
            <a:ext cx="90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the Power of Free Multimedia Creation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042320" y="231840"/>
            <a:ext cx="1471320" cy="14716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6192720" y="1641600"/>
            <a:ext cx="2951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1641600"/>
            <a:ext cx="3149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 Story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49240" y="291960"/>
            <a:ext cx="14382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8920" y="13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oto Story T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3480" y="2703600"/>
            <a:ext cx="751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possible, avoid using low resolution images if you plan to take advantage of Photo Story’s Pan and Zoom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71720" y="4535640"/>
            <a:ext cx="268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Re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20x2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0x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00640" y="4622760"/>
            <a:ext cx="268272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Re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00x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70 x 17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21360000">
            <a:off x="394920" y="54684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taccato222 BT"/>
              </a:rPr>
              <a:t>Why Movie A Was Blur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ech Stills – Photo 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655640" y="15969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 rot="19856400">
            <a:off x="-142200" y="272520"/>
            <a:ext cx="20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ech Stills – Movie Mak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515960" y="2057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 rot="19856400">
            <a:off x="-142200" y="272520"/>
            <a:ext cx="20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9959000">
            <a:off x="0" y="141408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taccato222 BT"/>
              </a:rPr>
              <a:t>Rather Stati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ech – Combin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e Maker and Photo Stor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436760" y="1847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M Newspaper Title Tri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1635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e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Hardrive &gt; Program Files &gt; Movie Maker &gt; Sh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news.png file in image editing program (e.g., Paint.ne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changes and sa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493560" y="5438880"/>
            <a:ext cx="8267760" cy="12286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5"/>
          <a:stretch/>
        </p:blipFill>
        <p:spPr>
          <a:xfrm>
            <a:off x="7361280" y="165240"/>
            <a:ext cx="1782720" cy="17697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8020080" y="819000"/>
            <a:ext cx="601560" cy="5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77240" y="888840"/>
            <a:ext cx="662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Do No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Chan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69880" y="146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 Changes in Paint.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264960" y="2803680"/>
            <a:ext cx="4087800" cy="30607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4991040" y="3595680"/>
            <a:ext cx="3944880" cy="29592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3524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M Newspaper Title Tri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820880" y="41371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News Mov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2370240" y="206676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69720" y="0"/>
            <a:ext cx="8229600" cy="17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– Combin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oto Story and Movie Mak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079360"/>
            <a:ext cx="8229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the fluid background graphic with a size of something like 7200x6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3513240" y="3375000"/>
            <a:ext cx="2374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 color gradient and large lette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this graphic into Photo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remove black b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 default 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he duration for approximately 40 sec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6"/>
          <a:stretch/>
        </p:blipFill>
        <p:spPr>
          <a:xfrm>
            <a:off x="235080" y="5551560"/>
            <a:ext cx="87184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your Photo Story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ave your story as a WMV f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Playback on Your Compu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 the Settings but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318960" y="5423040"/>
            <a:ext cx="871884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media In the Classr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523880" y="18050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78000"/>
            <a:ext cx="82296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the size you desire for your final movie, for example, 800x6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K and then Next. Photo Story will take a few moments to create your movie f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2216160" y="3687840"/>
            <a:ext cx="50259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ing Photo Story with Movie 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the Photo Story movie file into Movie Ma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g the file onto the timeline and select the cl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tools menu, choose Titles and Credits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Style Graphics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Title on Selected Cl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title animation to Moving Tiles, Lay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ome text, some music, and tweak until you are satisf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4"/>
          <a:stretch/>
        </p:blipFill>
        <p:spPr>
          <a:xfrm>
            <a:off x="1847880" y="4554360"/>
            <a:ext cx="60372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ech – TV Style Graph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2087640" y="2263680"/>
            <a:ext cx="488304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pturing Audio from Vide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vie Mak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201600" y="1454040"/>
            <a:ext cx="4497480" cy="28717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481640" y="4100400"/>
            <a:ext cx="4451400" cy="25545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314800">
            <a:off x="3304800" y="3647880"/>
            <a:ext cx="1100160" cy="1079280"/>
          </a:xfrm>
          <a:prstGeom prst="rightArrow">
            <a:avLst>
              <a:gd name="adj1" fmla="val 50000"/>
              <a:gd name="adj2" fmla="val 25484"/>
            </a:avLst>
          </a:pr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852480" y="2144880"/>
            <a:ext cx="2760840" cy="23238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racting Sound From Video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ree Video mp3 Ex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74120" y="5981760"/>
            <a:ext cx="83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http://www.geovid.com/Video_mp3_Extracto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464000" y="2168640"/>
            <a:ext cx="38210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e Maker as Compi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separate Photo Story movies into Movie Ma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t and embellish as you w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one movie file consisting of a compilation of several Photo Story mov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e Maker as Ex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9360" y="1046160"/>
            <a:ext cx="8579160" cy="58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ost the original photos used in Photo S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need to remove “nuisance” slide from a Photo Story mov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Photo Story movie into Movie Mak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 the original audio (music track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plit command to isolate the slide to be removed and then use Dele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e the audio embedded in the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nd add the captured original au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bbing Fr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only mediocr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ant to salvage what you c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video into Movie Ma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b frames as JPE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JPEGs into Photo Story. Avoid heavy Pan and Z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4640" y="159840"/>
            <a:ext cx="85518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e Non-Stop Soundtrac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Photo 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79520" y="18014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Photo Story fades out music segments on multi-segment soundtra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or record sounds into Auda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mixed soundtrack in Auda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 mp3 of soundtr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soundtrack into Photo Story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Technology Indica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880" y="1587600"/>
            <a:ext cx="845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de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velop a slide show presen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eacher assistance (e.g., small groups work together to create slides or hypermedia produc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de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reate a video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ated to a class a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d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ommunication design ele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language,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ound and mo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based on intent of the message (e.g., inform or persuad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244520" y="1673280"/>
            <a:ext cx="674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183200" y="3666960"/>
            <a:ext cx="4941720" cy="31053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asion of the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92160" y="2916360"/>
            <a:ext cx="1513080" cy="6429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>
            <a:lum contrast="18000"/>
          </a:blip>
          <a:srcRect l="0" t="0" r="0" b="3685"/>
          <a:stretch/>
        </p:blipFill>
        <p:spPr>
          <a:xfrm>
            <a:off x="131760" y="3666960"/>
            <a:ext cx="3971880" cy="30736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130800" y="2865600"/>
            <a:ext cx="1398600" cy="720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 rot="1230600">
            <a:off x="7760880" y="614520"/>
            <a:ext cx="1038240" cy="5238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 rot="20033400">
            <a:off x="358920" y="471600"/>
            <a:ext cx="1038240" cy="5238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1227240" y="1060560"/>
            <a:ext cx="679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s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e Maker and Photo Story tips and trick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sion for Edit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v to Movie Maker Compatible 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44520" y="2595600"/>
            <a:ext cx="674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0320" y="1976400"/>
            <a:ext cx="62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ree Online File Conver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71360" y="3038400"/>
            <a:ext cx="2932200" cy="1249560"/>
          </a:xfrm>
          <a:prstGeom prst="rect">
            <a:avLst/>
          </a:prstGeom>
          <a:ln w="0">
            <a:noFill/>
          </a:ln>
        </p:spPr>
      </p:pic>
      <p:grpSp>
        <p:nvGrpSpPr>
          <p:cNvPr id="625" name=""/>
          <p:cNvGrpSpPr/>
          <p:nvPr/>
        </p:nvGrpSpPr>
        <p:grpSpPr>
          <a:xfrm>
            <a:off x="152280" y="4983120"/>
            <a:ext cx="2908440" cy="1246320"/>
            <a:chOff x="152280" y="4983120"/>
            <a:chExt cx="2908440" cy="1246320"/>
          </a:xfrm>
        </p:grpSpPr>
        <p:sp>
          <p:nvSpPr>
            <p:cNvPr id="626" name=""/>
            <p:cNvSpPr/>
            <p:nvPr/>
          </p:nvSpPr>
          <p:spPr>
            <a:xfrm>
              <a:off x="152280" y="4983120"/>
              <a:ext cx="2908440" cy="124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162000" y="5210280"/>
              <a:ext cx="201924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/>
          <p:cNvSpPr/>
          <p:nvPr/>
        </p:nvSpPr>
        <p:spPr>
          <a:xfrm>
            <a:off x="2304720" y="4975200"/>
            <a:ext cx="665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-Conve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w.media-convert.c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676960" y="3026160"/>
            <a:ext cx="595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mza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eaeaea"/>
                </a:solidFill>
                <a:uFillTx/>
                <a:latin typeface="Arial"/>
                <a:hlinkClick r:id="rId3"/>
              </a:rPr>
              <a:t>www.zamzar.co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348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ter – mp4 to AV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244520" y="1673280"/>
            <a:ext cx="6742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251000" y="1987200"/>
            <a:ext cx="64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  <a:hlinkClick r:id="rId1"/>
              </a:rPr>
              <a:t>MP4Cam2AVI Easy Conver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40000" y="6195960"/>
            <a:ext cx="627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http://sourceforge.net/projects/mp4cam2av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2392200" y="2687760"/>
            <a:ext cx="4384800" cy="3348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 rot="20832600">
            <a:off x="54000" y="438120"/>
            <a:ext cx="504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taccato222 BT"/>
              </a:rPr>
              <a:t>Another Conversion Solu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0" y="1187280"/>
            <a:ext cx="6226200" cy="4670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e Maker Creative Fun P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41360" y="6234120"/>
            <a:ext cx="79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xp/downloads/powertoys/mmcreate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154080" y="1181160"/>
            <a:ext cx="2328840" cy="17463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3218040" y="1251000"/>
            <a:ext cx="2508120" cy="18810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155520" y="4586400"/>
            <a:ext cx="4726080" cy="15303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6043680" y="1973160"/>
            <a:ext cx="2543040" cy="116208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6"/>
          <a:stretch/>
        </p:blipFill>
        <p:spPr>
          <a:xfrm>
            <a:off x="5305320" y="3867120"/>
            <a:ext cx="38386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998640"/>
            <a:ext cx="9021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ood Luck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4280" y="4087800"/>
            <a:ext cx="7978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re Better Than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y Gri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Technology Consul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oning County Educational Servic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5400" y="274320"/>
            <a:ext cx="89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ial Studies Standard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lls and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5280" y="1587600"/>
            <a:ext cx="819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s collect, organize, evaluate, and synthesize information from multiple sources to draw logical conclusions.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tudents communicate this inform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using appropriate social studies terminology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ral, written, or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multimed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for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apply what they have learned to societal issues in simulated or real-world set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1009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ygrimm-etech.wikispaces.c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al Space at Wikisp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280" y="2254320"/>
            <a:ext cx="8764560" cy="34574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179360" y="611964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http://terrygrimm-etech.wikispace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rygrimm-etech.wikispaces.c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923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kiMedia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609480" y="2062080"/>
            <a:ext cx="7991640" cy="3884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07280" y="6083280"/>
            <a:ext cx="88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  <a:hlinkClick r:id="rId2"/>
              </a:rPr>
              <a:t>http://terrygrimm-etech.wikispaces.com/WikiMediaYou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20832600">
            <a:off x="2718000" y="387684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taccato222 BT"/>
              </a:rPr>
              <a:t>Your chance to collaborat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is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oto 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Image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 and Zoom (Ken Burns Eff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Ti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e Clips and St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an and Z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hoices for Ti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31800" y="5756400"/>
            <a:ext cx="56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th produce movie fi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20331000">
            <a:off x="2386080" y="4659120"/>
            <a:ext cx="888840" cy="974520"/>
          </a:xfrm>
          <a:prstGeom prst="downArrow">
            <a:avLst>
              <a:gd name="adj1" fmla="val 50000"/>
              <a:gd name="adj2" fmla="val 2741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1304400">
            <a:off x="5063760" y="4663800"/>
            <a:ext cx="888840" cy="974520"/>
          </a:xfrm>
          <a:prstGeom prst="downArrow">
            <a:avLst>
              <a:gd name="adj1" fmla="val 50000"/>
              <a:gd name="adj2" fmla="val 2741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oto Story T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09640" y="1082520"/>
            <a:ext cx="75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– Movi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698480" y="2013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oto Story T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9640" y="1082520"/>
            <a:ext cx="75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– Movi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576440" y="20829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20:02:38Z</dcterms:created>
  <dc:creator>mcoe_tag</dc:creator>
  <dc:description/>
  <dc:language>en-US</dc:language>
  <cp:lastModifiedBy>MCESC</cp:lastModifiedBy>
  <dcterms:modified xsi:type="dcterms:W3CDTF">2008-02-07T19:14:45Z</dcterms:modified>
  <cp:revision>182</cp:revision>
  <dc:subject/>
  <dc:title>Slide 1</dc:title>
</cp:coreProperties>
</file>